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F91-D72C-48E8-93CB-6CD3D583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401F-28FC-4895-AE62-2CC4273F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6E8-2B45-40F9-A750-11F9DF35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B55-BC7C-4DDC-A600-82696F63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A091-5D56-4064-8F7B-2D99BFFB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C29-7F76-4496-A9FF-09538AD8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6EA-CF64-4AF3-A3C8-B9D5A6F4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8B4-AF9C-4BFF-A085-1ED7206F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6F5B-B1D8-4171-87E6-DFBC13C9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8FE4-3B85-4679-88A6-396A36CE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B99-1086-4033-9F96-E0EB7996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0D5A-6035-449D-92D6-2D1572EB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A951-BDAB-4463-A4ED-925453145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how far from zero are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S00253_" descr=""/>
          <p:cNvPicPr/>
          <p:nvPr/>
        </p:nvPicPr>
        <p:blipFill>
          <a:blip r:embed="rId1"/>
          <a:stretch/>
        </p:blipFill>
        <p:spPr>
          <a:xfrm>
            <a:off x="3505320" y="3505320"/>
            <a:ext cx="17478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vidual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6840" y="32767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Section 2.2 in the practice work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505320" y="1752480"/>
            <a:ext cx="1788840" cy="1427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3520" y="4191120"/>
            <a:ext cx="79246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are YOU 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 I have no clue what she is talking abou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: I remember this from last year but better do my homework and ask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: This is a breeze. Bring on the homewor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opposites on a number li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numbers that are the same distance from zero are said to be oppo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819520"/>
            <a:ext cx="7315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657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the integer set from –5 to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what is Absolute Val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olute Value is the distance a number is from zero. Remember distance itself is ALWAYS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583160" cy="1857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4583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denote absolute val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26668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let’s try a fe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28600" y="1828800"/>
                <a:ext cx="8445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is the symbol used for absolute valu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It is read the absolute value o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57200" y="3505320"/>
                <a:ext cx="6984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4191120" y="388620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general statement can you make about absolute val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careful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th a negative sign in front of the absolute value sign should be read “take the opposite of”.  This means treat the absolute value sign like a grouping symbol. Do the work inside first THEN  take the opposit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D06665_" descr=""/>
          <p:cNvPicPr/>
          <p:nvPr/>
        </p:nvPicPr>
        <p:blipFill>
          <a:blip r:embed="rId1"/>
          <a:stretch/>
        </p:blipFill>
        <p:spPr>
          <a:xfrm>
            <a:off x="6629400" y="533520"/>
            <a:ext cx="124452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try a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447920" y="1981080"/>
                <a:ext cx="2087280" cy="421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f the variable is in the absolute value sig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33520" y="3276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imply means what are ALL the solutions that make this a true stat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429000" y="2286000"/>
                <a:ext cx="1339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09480" y="5257800"/>
            <a:ext cx="7239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5410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5486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locity and Sp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5943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ocity is how fast is something going AND in what direction is it headed? Example: If I am plummeting to earth in a hot air balloon my velocity would be –15 feet per seco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my speed would be the absolute value which 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BD05694_" descr=""/>
          <p:cNvPicPr/>
          <p:nvPr/>
        </p:nvPicPr>
        <p:blipFill>
          <a:blip r:embed="rId1"/>
          <a:stretch/>
        </p:blipFill>
        <p:spPr>
          <a:xfrm>
            <a:off x="6324480" y="1447920"/>
            <a:ext cx="237996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Thought for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ath it is not enough to just know the answer you have to PROVE you know it.  If you say something is FALSE you must provide a counter exampl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2004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a counter example to this stat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the students in Mrs. Rose’s algebra classes are b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4267080"/>
            <a:ext cx="8153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termine if these are true or false. If false, provide a counte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ression – x is never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solute value of a number will always be greater than or equal to that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07:12:30Z</dcterms:created>
  <dc:creator>Cindy Lou Apley</dc:creator>
  <dc:description/>
  <dc:language>en-US</dc:language>
  <cp:lastModifiedBy>User</cp:lastModifiedBy>
  <dcterms:modified xsi:type="dcterms:W3CDTF">2006-09-07T11:52:04Z</dcterms:modified>
  <cp:revision>7</cp:revision>
  <dc:subject/>
  <dc:title>Absolute Value</dc:title>
</cp:coreProperties>
</file>